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12193588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E98A-2617-4998-9275-2F53293E0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105156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5464440"/>
            <a:ext cx="105156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BA6F-C326-421A-BBF2-1E887374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546444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546444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2C3E-CAD0-421B-A412-483C9D402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243360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243360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546444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546444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546444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B07E-BCF9-4AD4-8EB2-91FC8266D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1B5A-4CEE-4F15-9B7B-5257A73C9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2433600"/>
            <a:ext cx="10515600" cy="58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CE99-D36C-4971-B5A7-5D5C6557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1051560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BEAE-2756-4AE6-B8FE-F5B65EB3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513144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2433600"/>
            <a:ext cx="513144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F0B2-7B4C-4724-8F22-E066735E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19FF-D980-459D-B51D-A46C16E6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487440"/>
            <a:ext cx="10515600" cy="81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4CA1-A0EC-4CE5-B28F-64742DD4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2433600"/>
            <a:ext cx="513144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546444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6723-E482-41B7-B498-E04AB8D3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433600"/>
            <a:ext cx="10515600" cy="58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F75E-26A5-4244-9FB4-E836B50B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513144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546444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4F78-1B98-4BFC-8BB6-ECA0E61E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5464440"/>
            <a:ext cx="105156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1E12-8610-49D2-80E0-1FE8526E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105156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5464440"/>
            <a:ext cx="105156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595C-DDAF-4DBE-A052-E2E3BC36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546444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546444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4D28-D96E-4BE9-8A48-F7F16D82A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243360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243360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546444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546444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546444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173F-C6D0-4D61-A47F-3ECBF3C87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77439-3154-4988-80D8-314D04335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2433600"/>
            <a:ext cx="10515600" cy="58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660D0-84A6-44B4-8503-BAF23292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1051560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BF9F0-371E-4DC3-8153-CA776542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513144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2433600"/>
            <a:ext cx="513144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C27A0-9760-4E4C-A13C-FA738900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1C7C6-4789-4C59-A686-597C182A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1051560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1361-94B3-4C98-8AD1-D81D76E0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487440"/>
            <a:ext cx="10515600" cy="81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727E9-4A64-43FC-A693-12D81F7C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2433600"/>
            <a:ext cx="513144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546444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C0937-5DA2-4DDB-8F3F-CF2C65BA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513144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6560" y="546444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2D316-FD43-4809-8475-EC06536E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5464440"/>
            <a:ext cx="105156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EE631-2C6D-41E0-B178-56599F4F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105156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5464440"/>
            <a:ext cx="105156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05E62-B2F8-48B9-85E9-9A073D1B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56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546444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26560" y="546444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F57B8-2D85-46E0-B17F-A84CD1F4F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93440" y="243360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49160" y="243360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546444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93440" y="546444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49160" y="546444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CAB20-D6DB-47EE-82FB-40D9C77C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513144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2433600"/>
            <a:ext cx="513144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A684-577E-4FDF-9A71-3249F4A4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C8BD-000D-419F-976F-C520CA7E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487440"/>
            <a:ext cx="10515600" cy="81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A3CD-F358-4C79-869E-F4F0A806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2433600"/>
            <a:ext cx="513144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546444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18C6-20DF-4BA1-8803-34284EA4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513144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546444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60A6-39AA-4264-A342-E7D37C20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5464440"/>
            <a:ext cx="105156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252D-B4EA-4B55-83F4-16539CB4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2433600"/>
            <a:ext cx="1051560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8475480"/>
            <a:ext cx="2743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8475480"/>
            <a:ext cx="4114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8475480"/>
            <a:ext cx="2743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2923-98AC-4AF1-BA22-755469E8BCD7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2433600"/>
            <a:ext cx="1051560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8475480"/>
            <a:ext cx="2743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8475480"/>
            <a:ext cx="4114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8475480"/>
            <a:ext cx="2743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C2A6-1893-4DFA-B998-53FD55FC4087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Imag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9144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38080" y="2433600"/>
            <a:ext cx="1051560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838080" y="8475480"/>
            <a:ext cx="2743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038480" y="8475480"/>
            <a:ext cx="4114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10480" y="8475480"/>
            <a:ext cx="2743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8C0C-A8CE-4DDC-B70F-CD67D8335386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1T15:26:44Z</dcterms:created>
  <dc:creator>Francois-Xavier Boutry</dc:creator>
  <dc:description/>
  <dc:language>en-US</dc:language>
  <cp:lastModifiedBy>Francois-Xavier Boutry</cp:lastModifiedBy>
  <dcterms:modified xsi:type="dcterms:W3CDTF">2019-01-11T15:26:45Z</dcterms:modified>
  <cp:revision>1</cp:revision>
  <dc:subject/>
  <dc:title>Présentation PowerPoint</dc:title>
</cp:coreProperties>
</file>